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3.wmf" ContentType="image/x-wmf"/>
  <Override PartName="/ppt/media/image9.png" ContentType="image/png"/>
  <Override PartName="/ppt/media/image17.wmf" ContentType="image/x-wmf"/>
  <Override PartName="/ppt/media/image8.wmf" ContentType="image/x-wmf"/>
  <Override PartName="/ppt/media/image12.wmf" ContentType="image/x-wmf"/>
  <Override PartName="/ppt/media/image18.wmf" ContentType="image/x-wmf"/>
  <Override PartName="/ppt/media/image16.png" ContentType="image/png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1996D5E-5C6A-4B9D-A672-9AE53CC8CC3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5BBF17-992B-4FB6-87CD-AFE0266019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jogger runs away from campus at a steady rate, stops to talk to some friends, runs away from campus for a little longer, and then returns to campus.  Which graph below could show the jogger’s distance as a function of tim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jogger runs away from campus at a steady rate, stops to talk to some friends, runs away from campus for a little longer, and then returns to campus.  Which graph below could show the jogger’s distance as a function of tim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iven two linear equations, how many solutions can the system hav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) Exactly one solution or no s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) Exactly one solution or infinitely many solu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) Exactly one solution, no solutions, or infinitely many solu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) Any number of solu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iven two linear equations, how many solutions can the system hav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) Exactly one solution or no sol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) Exactly one solution or infinitely many solu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) Exactly one solution, no solutions, or infinitely many solu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) Any number of solu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graph on the right shows three different tax systems as a function of income.  Which represents a progressive tax (that is, where richer people pay a higher percentage of their income on taxes)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graph on the right shows three different tax systems as a function of income.  Which represents a progressive tax (that is, where richer people pay a higher percentage of their income on taxes)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statement below is correc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: (-3x2)3 = -3(x2)3 = -3x6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: (-3x2)3 = -(3x2)3 = -27x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: (-3x2)3 = (-3)3(x2)3 = -27x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: None of the abo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statement below is correc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: (-3x2)3 = -3(x2)3 = -3x6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: (-3x2)3 = -(3x2)3 = -27x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: (-3x2)3 = (-3)3(x2)3 = -27x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: None of the abo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 your logarithmic scale of time, where does 500 years ago fi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: closer to the 102 mark than to the 103 ma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: closer to the 103 mark than to the 102 ma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: exactly between the 102 and the 103 ma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 your logarithmic scale of time, where does 500 years ago fi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: closer to the 102 mark than to the 103 mar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: closer to the 103 mark than to the 102 mar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: exactly between the 102 and the 103 mar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of the following is tru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: f(x) is exponential and g(x) is lin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: f(x) is neither linear or exponent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: g(x) is neither linear or exponent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: f(x) is linear and g(x) is exponent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of the following is tru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: f(x) is exponential and g(x) is line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: f(x) is neither linear or exponent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: g(x) is neither linear or exponent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: f(x) is linear and g(x) is exponent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opulation of bacteria is described by y = 200(2.75)t where t is measured in days.  Which statement is correc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: The population is growing at 75% per d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: The population is growing at 275% per d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: The population is growing at 175% per hou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: None of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opulation of bacteria is described by y = 200(2.75)t where t is measured in days.  Which statement is correc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: The population is growing at 75% per d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: The population is growing at 275% per d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: The population is growing at 175% per hou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: None of the abov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all functions below are graphed, which graph is the blue graph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 = 200(.5)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 = 200(1.1)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 = 100(1.5)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 = 200(.2)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all functions below are graphed, which graph is the blue graph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 = 200(.5)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 = 200(1.1)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 = 100(1.5)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 = 200(.2)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of the below functions has a half life of 8 days?  (In all functions, t measures days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: y = 100(1/8)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: y = 25(8)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: y = 30(1/2)t/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: y = 8(1/2)8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of the below functions has a half life of 8 days?  (In all functions, t measures days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: y = 100(1/8)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: y = 25(8)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: y = 30(1/2)t/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: y = 8(1/2)8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will the half-life be for the equation  y = 50(.5)4t where t is measured in day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25 day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day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0 day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ne of the abo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will the half-life be for the equation  y = 50(.5)4t where t is measured in day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25 d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d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0 d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ne of the abo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you know that log a is about .301, which of the following statements is tru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: log(100a) is about 2.3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: log(a2) is about .0906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: Both A and B are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: Neither A nor B are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you know that log a is about .301, which of the following statements is tru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: log(100a) is about 2.30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: log(a2) is about .09060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: Both A and B are tru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: Neither A nor B are tru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ppose the average rate of change of jobs in Caddo Parish with respect to time is 10,000 jobs/year for the period from 1995 to 2005. Which statement is most accurat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ch year, the number of jobs increased by 10,00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umber of jobs never decreas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th A) and B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ither A) nor B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ppose the average rate of change of jobs in Caddo Parish with respect to time is 10,000 jobs/year for the period from 1995 to 2005. Which statement is most accurat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ch year, the number of jobs increased by 10,00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umber of jobs never decreas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th A) and B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ither A) nor B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ppose you know that ln(a) equals .25.  What can you say about ln(ae4)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: It equals 4.25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: It equals .25 + e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: It equals .254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: None of the abov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ppose you know that ln(a) equals .25.  What can you say about ln(ae4)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: It equals 4.2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: It equals .25 + e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: It equals .25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: None of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ept Test: Which slope is larges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ept Test: Which slope is larges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iven the graph on the right of y = f(x), which of the below numbers is most positiv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: f(2) – f(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: the average rate of change of f from x = 0 to x =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: the average rate of change from x = -2 to x =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iven the graph on the right of y = f(x), which of the below numbers is most positiv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: f(2) – f(0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: the average rate of change of f from x = 0 to x =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: the average rate of change from x = -2 to x = 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four linear functions below are graphed on the right.  Which one is the red lin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: y = 4 + 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: y = 4 – 2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: y = 2 – 2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: y = 2 – 4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four linear functions below are graphed on the right.  Which one is the red lin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: y = 4 + 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: y = 4 – 2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: y = 2 – 2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: y = 2 – 4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pre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ree cars have the following functions that give the total cost of ownership as a function of the number of miles travele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r A:  y = 15,000 + .14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r B:  y = 28,000 + .2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r C:  y = 22,000 + .09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car was most expensive to purchas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car is the cheapest to operate per mil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fter 60,000 miles, which car has had the lowest cost of ownership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pre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ree cars have the following functions that give the total cost of ownership as a function of the number of miles traveled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r A:  y = 15,000 + .14 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r B:  y = 28,000 + .20 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r C:  y = 22,000 + .09 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car was most expensive to purchas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car is the cheapest to operate per mil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fter 60,000 miles, which car has had the lowest cost of ownership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Multiple answers possible)  Which of the below tables shows a linear func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: None of the abo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Multiple answers possible)  Which of the below tables shows a linear functio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: None of the abo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which functions is y not directly proportional to x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which functions is y not a linear function of x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which functions is y not directly proportional to x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which functions is y not a linear function of x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have been offered three different jobs: job R has a base salary of $55,000 with annual raises of $2000, job S has a base salary of $45,000 with annual raises of $3200, and job T has a base salary of $48,000 with annual raises of $2000.  Assuming you will be working at this job for many years, how should you rank the jobs according to the income you will receiv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) R, S, T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) S, R, 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) R, T, S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) None of the abo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have been offered three different jobs: job R has a base salary of $55,000 with annual raises of $2000, job S has a base salary of $45,000 with annual raises of $3200, and job T has a base salary of $48,000 with annual raises of $2000.  Assuming you will be working at this job for many years, how should you rank the jobs according to the income you will receiv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) R, S, T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) S, R, 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) R, T, S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) None of the abo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FD68D-F1AC-4485-888D-198B35587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C894B-A6B5-4BA9-9BC8-C860F4812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02C96-2D42-49E7-9870-E68B654D2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71AA0-4143-4473-A2B2-CBA64C361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6256F-F38D-41FA-AA35-6F74CDE7E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7F8CC-9B7F-4360-A1AE-9C1557442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AEA05-99CD-46FA-B435-3507DCDF7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F823C-419F-41C3-A15F-F2EA896E7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D45D8-5C6E-4AD3-9251-F6D2C55B9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60901-DB0B-4B08-A8A6-30B0951AE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09C26-96B0-45C7-8FA3-96B78E5AD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1D95F-627F-4145-B9EF-30E37277C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0C952-8632-4588-89FE-030A3AD2A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F3136-4E37-4FF9-920C-8330ED2EF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21267-9E13-4ACF-B964-D07FE2136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B24F9-56CF-4E47-BA46-C6F617FA5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8DB05-9E20-4230-A7A7-7FDF21E4D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6162C1-9616-420F-824A-653C209D6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5B1290-0FC4-48CA-9B69-E9FD187C7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D02795-1A7C-4BD7-9536-CAD574AE9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A90E6B-1212-4461-8C14-4366212DA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ECD6BD-7714-4E2A-930B-6268A5721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EB7E0-6DD8-4E6F-81C7-B3553E745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10FF77-DFB8-4803-AC44-F14E633C2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BD7C5C-B21D-40D5-A2FC-28F79A8AC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CC9DA4-FD1B-4FA5-91A4-F18E168CB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EE6035-A019-4DC5-80DB-3CBFE3D43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5E8040-09B3-4D15-BE67-EFB74DE0B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944704-D2B0-405C-A535-26B55D2B2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FAE8E0-8372-489E-AD61-B425B1CEA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9CBD46-BE40-485A-9837-8D02D7E86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B8A402-DD6C-4F40-A10A-9D59F7C82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8B0E6B-89D3-4EF4-AC38-7BB8F38DD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D3216-1666-4319-97AC-EC250081C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521BB8-C031-4577-BBFE-50BE7CE94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6B1B8D-2A7F-4A48-9F2E-F62C4E2CE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3FFCF4-1E3F-4951-BE7E-364489DE3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F73782-3FEF-40EC-894E-169121AB4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1008DF-B399-4B7D-B2AF-69E11B0D0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AC6304-2A39-4514-87FB-13241BA71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229235-88B4-4970-866F-78C8DB452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C08061-84F1-4862-AF06-75D431906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5DA559-EC51-4A9D-8DEF-9E138B30B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8ACAE-658A-4BCD-AAD8-1783C2488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AFB9A-3A0B-4C7B-B0EE-25C178702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FCB0E-607B-4A4F-98C3-EAF7DD912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2FE1F-1435-4E51-A102-E46264BCC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AB677-1A41-49CA-91BE-E9837649B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59AE26-A272-440C-A658-3ED3CE600E5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873105E-D502-45B9-B349-396EFF64F9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9247E6-F3BD-4A7E-8D53-654B611B96E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B9A795-3794-4FFC-B527-D1AF0FD601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78B29C-6E57-4EDE-9F49-CDEFCA9148D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5269EE6-ED54-471F-AA4F-0075C0985D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B41414A-E2E1-4051-9667-95CA065F45B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B2F0231-37E3-4898-86A0-539C2CCCC5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6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7.wmf"/><Relationship Id="rId7" Type="http://schemas.openxmlformats.org/officeDocument/2006/relationships/slideLayout" Target="../slideLayouts/slideLayout25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1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4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15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jogger runs away from campus at a steady rate, stops to talk to some friends, runs away from campus for a little longer, and then returns to campus.  Which graph below could show the jogger’s distance as a function of time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3" name="Picture 4" descr=""/>
          <p:cNvPicPr/>
          <p:nvPr/>
        </p:nvPicPr>
        <p:blipFill>
          <a:blip r:embed="rId1"/>
          <a:stretch/>
        </p:blipFill>
        <p:spPr>
          <a:xfrm>
            <a:off x="304920" y="3657600"/>
            <a:ext cx="2185920" cy="218592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5" descr=""/>
          <p:cNvPicPr/>
          <p:nvPr/>
        </p:nvPicPr>
        <p:blipFill>
          <a:blip r:embed="rId2"/>
          <a:stretch/>
        </p:blipFill>
        <p:spPr>
          <a:xfrm>
            <a:off x="4572000" y="3657600"/>
            <a:ext cx="2187720" cy="218772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6" descr=""/>
          <p:cNvPicPr/>
          <p:nvPr/>
        </p:nvPicPr>
        <p:blipFill>
          <a:blip r:embed="rId3"/>
          <a:stretch/>
        </p:blipFill>
        <p:spPr>
          <a:xfrm>
            <a:off x="2438280" y="3505320"/>
            <a:ext cx="2362320" cy="23619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7" descr=""/>
          <p:cNvPicPr/>
          <p:nvPr/>
        </p:nvPicPr>
        <p:blipFill>
          <a:blip r:embed="rId4"/>
          <a:stretch/>
        </p:blipFill>
        <p:spPr>
          <a:xfrm>
            <a:off x="6591240" y="3352680"/>
            <a:ext cx="2552760" cy="2552760"/>
          </a:xfrm>
          <a:prstGeom prst="rect">
            <a:avLst/>
          </a:prstGeom>
          <a:ln w="0">
            <a:noFill/>
          </a:ln>
        </p:spPr>
      </p:pic>
      <p:sp>
        <p:nvSpPr>
          <p:cNvPr id="1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iven two linear equations, how many solutions can the system hav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) Exactly one solution or no solu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) Exactly one solution or infinitely many solu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) Exactly one solution, no solutions, or infinitely many solu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) Any number of solu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graph on the right shows three different tax systems as a function of income.  Which represents a progressive tax (that is, where richer people pay a higher percentage of their income on taxes)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6" name="Picture 7" descr="[image]"/>
          <p:cNvPicPr/>
          <p:nvPr/>
        </p:nvPicPr>
        <p:blipFill>
          <a:blip r:embed="rId1"/>
          <a:stretch/>
        </p:blipFill>
        <p:spPr>
          <a:xfrm>
            <a:off x="5181480" y="152388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2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statement below is correc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: (-3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= -3(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3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= -3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: (-3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= -(3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3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= -27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: (-3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= (-3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3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= -27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: None of the abo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 your logarithmic scale of time, where does 500 years ago fi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: closer to the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ark than to the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a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: closer to the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ark than to the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a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: exactly between the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and the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a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5" name="Picture 4" descr=""/>
          <p:cNvPicPr/>
          <p:nvPr/>
        </p:nvPicPr>
        <p:blipFill>
          <a:blip r:embed="rId1"/>
          <a:stretch/>
        </p:blipFill>
        <p:spPr>
          <a:xfrm>
            <a:off x="5791320" y="2286000"/>
            <a:ext cx="2819160" cy="2514600"/>
          </a:xfrm>
          <a:prstGeom prst="rect">
            <a:avLst/>
          </a:prstGeom>
          <a:ln w="0">
            <a:noFill/>
          </a:ln>
        </p:spPr>
      </p:pic>
      <p:sp>
        <p:nvSpPr>
          <p:cNvPr id="236" name="Text Box 6"/>
          <p:cNvSpPr/>
          <p:nvPr/>
        </p:nvSpPr>
        <p:spPr>
          <a:xfrm>
            <a:off x="457200" y="1905120"/>
            <a:ext cx="449568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ch of the following is tru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f(x) is exponential and g(x) is lin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: f(x) is neither linear or exponent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: g(x) is neither linear or exponent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: f(x) is linear and g(x) is exponent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population of bacteria is described by y = 200(2.75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where t is measured in days.  Which statement is correct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: The population is growing at 75% per da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: The population is growing at 275% per da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: The population is growing at 175% per hou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: None of the abov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f all functions below are graphed, which graph is the blue graph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lphaUcParenR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y = 200(.5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lphaUcParenR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y = 200(1.1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lphaUcParenR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y = 100(1.5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lphaUcParenR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y = 200(.2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3" name="Picture 4" descr=""/>
          <p:cNvPicPr/>
          <p:nvPr/>
        </p:nvPicPr>
        <p:blipFill>
          <a:blip r:embed="rId1"/>
          <a:stretch/>
        </p:blipFill>
        <p:spPr>
          <a:xfrm>
            <a:off x="4191120" y="1714680"/>
            <a:ext cx="4572000" cy="4572000"/>
          </a:xfrm>
          <a:prstGeom prst="rect">
            <a:avLst/>
          </a:prstGeom>
          <a:ln w="0">
            <a:noFill/>
          </a:ln>
        </p:spPr>
      </p:pic>
      <p:sp>
        <p:nvSpPr>
          <p:cNvPr id="24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of the below functions has a half life of 8 days?  (In all functions, t measures days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: y = 100(1/8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: y = 25(8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: y = 30(1/2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t/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: y = 8(1/2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8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will the half-life be for the equation  y = 50(.5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4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where t is measured in day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lphaU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25 da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lphaU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 da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lphaU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50 da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lphaU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ne of the abo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you know that log a is about .301, which of the following statements is tru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: log(100a) is about 2.30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: log(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 is about .09060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: Both A and B are tru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: Neither A nor B are tru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ppose the average rate of change of jobs in Caddo Parish with respect to time is 10,000 jobs/year for the period from 1995 to 2005. Which statement is most accurat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alibri"/>
              <a:buAutoNum type="alphaU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ach year, the number of jobs increased by 10,000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alibri"/>
              <a:buAutoNum type="alphaU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number of jobs never decreas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alibri"/>
              <a:buAutoNum type="alphaU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oth A) and B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alibri"/>
              <a:buAutoNum type="alphaU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ither A) nor B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ppose you know that ln(a) equals .25.  What can you say about ln(ae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: It equals 4.25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: It equals .25 + e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: It equals .25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: None of the abov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4038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oncept Test: Which slope is largest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82" name="Object 2"/>
          <p:cNvGraphicFramePr/>
          <p:nvPr/>
        </p:nvGraphicFramePr>
        <p:xfrm>
          <a:off x="533520" y="1447920"/>
          <a:ext cx="4267080" cy="252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47920"/>
                    <a:ext cx="4267080" cy="252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Object 3"/>
          <p:cNvGraphicFramePr/>
          <p:nvPr/>
        </p:nvGraphicFramePr>
        <p:xfrm>
          <a:off x="5257800" y="685800"/>
          <a:ext cx="3276720" cy="57913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85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57800" y="685800"/>
                    <a:ext cx="3276720" cy="579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6" name="Object 4"/>
          <p:cNvGraphicFramePr/>
          <p:nvPr/>
        </p:nvGraphicFramePr>
        <p:xfrm>
          <a:off x="1523880" y="4114800"/>
          <a:ext cx="3124440" cy="203688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187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23880" y="4114800"/>
                    <a:ext cx="3124440" cy="203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iven the graph on the right of y = f(x), which of the below numbers is most positive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: f(2) – f(0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: the average rate of change of f from x = 0 to x = 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: the average rate of change from x = -2 to x = 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1" name="Picture 4" descr=""/>
          <p:cNvPicPr/>
          <p:nvPr/>
        </p:nvPicPr>
        <p:blipFill>
          <a:blip r:embed="rId1"/>
          <a:stretch/>
        </p:blipFill>
        <p:spPr>
          <a:xfrm>
            <a:off x="5181480" y="1905120"/>
            <a:ext cx="3505320" cy="3504960"/>
          </a:xfrm>
          <a:prstGeom prst="rect">
            <a:avLst/>
          </a:prstGeom>
          <a:ln w="0">
            <a:noFill/>
          </a:ln>
        </p:spPr>
      </p:pic>
      <p:sp>
        <p:nvSpPr>
          <p:cNvPr id="1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91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l four linear functions below are graphed on the right.  Which one is the red lin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: y = 4 + 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: y = 4 – 2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: y = 2 – 2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: y = 2 – 4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5" name="Picture 4" descr=""/>
          <p:cNvPicPr/>
          <p:nvPr/>
        </p:nvPicPr>
        <p:blipFill>
          <a:blip r:embed="rId1"/>
          <a:stretch/>
        </p:blipFill>
        <p:spPr>
          <a:xfrm>
            <a:off x="4191120" y="1676520"/>
            <a:ext cx="4647960" cy="4647960"/>
          </a:xfrm>
          <a:prstGeom prst="rect">
            <a:avLst/>
          </a:prstGeom>
          <a:ln w="0">
            <a:noFill/>
          </a:ln>
        </p:spPr>
      </p:pic>
      <p:sp>
        <p:nvSpPr>
          <p:cNvPr id="1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pre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ree cars have the following functions that give the total cost of ownership as a function of the number of miles traveled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ar A:  y = 15,000 + .14 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ar B:  y = 28,000 + .20 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ar C:  y = 22,000 + .09 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ich car was most expensive to purchase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ich car is the cheapest to operate per mile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fter 60,000 miles, which car has had the lowest cost of ownership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Multiple answers possible)  Which of the below tables shows a linear functio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: None of the abo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02" name="Object 2"/>
          <p:cNvGraphicFramePr/>
          <p:nvPr/>
        </p:nvGraphicFramePr>
        <p:xfrm>
          <a:off x="3505320" y="2916360"/>
          <a:ext cx="2286000" cy="1716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916360"/>
                    <a:ext cx="2286000" cy="17161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04" name="Object 3"/>
          <p:cNvGraphicFramePr/>
          <p:nvPr/>
        </p:nvGraphicFramePr>
        <p:xfrm>
          <a:off x="380880" y="2819520"/>
          <a:ext cx="2286000" cy="1909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05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2819520"/>
                    <a:ext cx="2286000" cy="19098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06" name="Object 4"/>
          <p:cNvGraphicFramePr/>
          <p:nvPr/>
        </p:nvGraphicFramePr>
        <p:xfrm>
          <a:off x="6400800" y="2819520"/>
          <a:ext cx="2344680" cy="195876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207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400800" y="2819520"/>
                    <a:ext cx="2344680" cy="1958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0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 which functions is y not directly proportional to x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 which functions is y not a linear function of x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11" name="Object 2"/>
          <p:cNvGraphicFramePr/>
          <p:nvPr/>
        </p:nvGraphicFramePr>
        <p:xfrm>
          <a:off x="457200" y="3809880"/>
          <a:ext cx="2276640" cy="2060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809880"/>
                    <a:ext cx="2276640" cy="206064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13" name="Object 3"/>
          <p:cNvGraphicFramePr/>
          <p:nvPr/>
        </p:nvGraphicFramePr>
        <p:xfrm>
          <a:off x="3200400" y="3809880"/>
          <a:ext cx="2230560" cy="20224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14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00400" y="3809880"/>
                    <a:ext cx="2230560" cy="202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15" name="Object 4"/>
          <p:cNvGraphicFramePr/>
          <p:nvPr/>
        </p:nvGraphicFramePr>
        <p:xfrm>
          <a:off x="5943600" y="3809880"/>
          <a:ext cx="2257560" cy="204336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216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943600" y="3809880"/>
                    <a:ext cx="2257560" cy="20433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1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You have been offered three different jobs: job R has a base salary of $55,000 with annual raises of $2000, job S has a base salary of $45,000 with annual raises of $3200, and job T has a base salary of $48,000 with annual raises of $2000.  Assuming you will be working at this job for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man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years, how should you rank the jobs according to the income you will receiv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) R, S, 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) S, R, 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) R, T, 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) None of the abov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4T16:21:45Z</dcterms:created>
  <dc:creator>Mark Schlatter</dc:creator>
  <dc:description/>
  <dc:language>en-US</dc:language>
  <cp:lastModifiedBy>LEGION</cp:lastModifiedBy>
  <dcterms:modified xsi:type="dcterms:W3CDTF">2017-07-06T06:32:08Z</dcterms:modified>
  <cp:revision>5</cp:revision>
  <dc:subject/>
  <dc:title>Concept Test</dc:title>
</cp:coreProperties>
</file>